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2341-45E7-43ED-8534-B526D3E9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8B40-2F4A-4B2F-8596-FC3552B9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72A-26AB-4374-BDEE-A7F6C709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D1B7-941D-40C0-A0CB-C2591866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EAB0-434A-4872-8E79-8B966C68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603C-C29A-4CDC-A8F5-1D3AB5DA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F46C-E0E0-46E9-BEC1-96CD53CD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0EBF-7F1F-4340-8849-DD4F3867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1363-613B-468B-B06E-C0E47D4E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2C1F-8546-4DD5-AF54-97420ED3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73F3-12C5-48B0-8E72-F723E21B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10A-64E3-4C8E-90CD-ECE6260C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ADC2-A235-4BE2-A86E-565F219D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C7B7-D615-4BB5-8B5C-5FD5CF07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15D3-9A6E-4946-A48F-7C4DD833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9F71-485F-4B30-8D4D-F24ADB91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81A0-E3F0-4F48-82BB-C1F686C8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BDA-34E5-452B-9E2B-5DBD5B03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313A-0D51-4821-8F54-B8817D45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164B-2351-4F40-9010-DE2B303F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5D94-DB28-4E9F-809C-DF55D8FA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0A1-6637-499C-A823-23775647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C9F4-3813-43CE-BBF8-7AC134AB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8FCF-37C9-45A0-8D9F-8E419D02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1042-2353-45D8-8614-8121C44A9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E272-D367-41F8-B740-E4ADA595F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hapter 16.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enes and Variati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hapter 16.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volution as Genetic Cha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Natural Selection on Single Gene Trai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selection on single gene traits can lead to changes in allele frequencies and thus to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pered moths during industrial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4838760" cy="3040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3048120" y="4723920"/>
            <a:ext cx="1676160" cy="1752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Natural Selection on Polygenic Trai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can affect the distributions of phenotypes in any of three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zing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ve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irectional Sele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ndividuals are one end of the cure have higher fitness than individuals in the middle or at the other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3929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tabilizing Sele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ndividuals near the center of the curve have higher fitness than individuals at either end of the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32432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isruptive Sele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ndividuals at the upper and lower ends of the curve have higher fitness than individuals near the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390920" y="1828800"/>
            <a:ext cx="3225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Genetic Drif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change in allele frequency in small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population may not fit the predicted genetic prob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mall populations, individuals that carry a particular allele may leave more descendants than other individuals, just by chance.  Over time, a series of chance occurrences of this type can cause an allele to become common in a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Founder Effec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tuation in which allele frequencies change as a result of the migration of a small subgroup of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Hardy Weinberg Principl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that allele frequencies in a population will remain constant unless one or more factors cause those frequencies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genetic frequencies remain constant, it is called genetic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Five Conditions of Genetic Equilibriu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ve conditions required to maintain genetic equilibrium from generation to generation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mating mus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must be very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can be no movement into or out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atural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Darwin’s Handicap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Mendel’s work on genetics was published in Darwin’s lifetime, there were two big gaps in hi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win had no idea how heritable traits pass from one generation to the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variation in heritable traits was central to Darwin’s theory, he had no idea how that variation appe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endel meets Darwi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n’t until the 1930’s that Mendel’s ideas of genes fused with Darwin’s ideas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genes produce heritable variation on which natural selection can op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Gene Poo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variation is studied in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individuals of the same species that interbr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 poo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all the genes, including all the different alleles, that are present 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Relative Frequency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lative frequency of an allele is the number o times that the allele occurs in a gene pool, compared with the number o times other alleles for the same gene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tic terms, evolution is any change in the relative frequency of alleles in a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Genetic Vari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main sources of genetic variation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tic shuffling that results from sexual reproduction, including crossing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ingle Gene vs. Polygenic Trai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henotypes produced for a given trait depends on how many genes control the tr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gene trait – phenotype that is controlled by a single gene that has two all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ies are represented by a bar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genic trait – phenotype that are controlled by two or more genes, often involving two or more all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ies are represented in a line graph (bell cur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Genetic Views of Evolu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ary fitness is an organism’s success in passing genes to the next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ary adaptations are any genetically controlled physiological, anatomical, or behavioral trait that increases an individual’s ability to pass on its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Natural Selection and Genetic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never acts on a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cts on the organism as a whole (the entire collection of ge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only affect which individuals survive and reproduce and which do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7:42:18Z</dcterms:created>
  <dc:creator>udsd</dc:creator>
  <dc:description/>
  <dc:language>en-US</dc:language>
  <cp:lastModifiedBy>udsd</cp:lastModifiedBy>
  <dcterms:modified xsi:type="dcterms:W3CDTF">2010-06-01T21:42:33Z</dcterms:modified>
  <cp:revision>20</cp:revision>
  <dc:subject/>
  <dc:title>PowerPoint Presentation</dc:title>
</cp:coreProperties>
</file>